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592B-B5B5-429E-996A-F20AEBD6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0FB6-0F7C-421A-8244-80FBBB12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115A-3528-47FA-883C-C58F66A7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25EF-920F-43EF-8B20-9F1B37B5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E175-20DF-44A5-A457-4C755C2E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A564-540B-4830-A581-C5C738CE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5DA9-8507-40C1-974E-45A39CD9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C290-9ED9-463E-B290-0D6C805B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FE07-8D2A-4A8F-AA2F-5077F4C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0FA3-C017-4C87-BBA9-A2DED75C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9352-1E2C-4456-8589-4ED1DE01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C120-4D8F-42D8-85F0-F0DADD3B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H01926J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019560"/>
            <a:ext cx="685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B041-1F94-44C2-B622-637B440D175E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PH01926J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6/Eisenhower_d-da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sson 3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e War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llies defeat Germany and Italy by coordinating war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dy Landing aka D-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5A68-5CB4-40DF-B4B6-282E1CE798D9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52280" y="1574640"/>
            <a:ext cx="8153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D491-6BCD-4862-B9CE-6E8587612D30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93760" y="0"/>
            <a:ext cx="85453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B1F8-C1C3-4ACD-BEDE-37D946E2E8D2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9080" y="533520"/>
            <a:ext cx="912492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45EB-F4EA-4013-BFB5-E81FD097DC74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76440" y="-52560"/>
            <a:ext cx="51292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1A42-83F9-404F-B38D-C2F679659F77}" type="slidenum">
              <a:rPr b="0" lang="en-US" sz="2000" spc="-1" strike="noStrike">
                <a:solidFill>
                  <a:srgbClr val="ffffd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ile:Eisenhower d-d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06640"/>
            <a:ext cx="7170840" cy="575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. Eisenhower with D-Day troops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en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B0A4-45D9-4534-A9A1-8D05846D1352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ving Private Ry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ing in Normand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5893-28DB-447F-AF1E-213B1B40FBE9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s surrendering at   St.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t-lo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E555-460A-447F-805F-762E5E2BF5C4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POW’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arislib2"/>
          <p:cNvPicPr/>
          <p:nvPr/>
        </p:nvPicPr>
        <p:blipFill>
          <a:blip r:embed="rId1"/>
          <a:stretch/>
        </p:blipFill>
        <p:spPr>
          <a:xfrm>
            <a:off x="304920" y="1805040"/>
            <a:ext cx="62481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1DCC-D9F2-4CF2-BB6D-79EBB36EB2B0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. Dwight Eisenh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upreme Commander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48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1828800" y="1800360"/>
            <a:ext cx="5486400" cy="3170160"/>
            <a:chOff x="1828800" y="1800360"/>
            <a:chExt cx="5486400" cy="3170160"/>
          </a:xfrm>
        </p:grpSpPr>
        <p:sp>
          <p:nvSpPr>
            <p:cNvPr id="89" name="Rectangle 9"/>
            <p:cNvSpPr/>
            <p:nvPr/>
          </p:nvSpPr>
          <p:spPr>
            <a:xfrm>
              <a:off x="1828800" y="1800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1828800" y="1800360"/>
              <a:ext cx="548640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1" descr="Photograph, The Supreme Allied Commander at 8th Infantry Division headquarters in Belgium, November 1944."/>
          <p:cNvPicPr/>
          <p:nvPr/>
        </p:nvPicPr>
        <p:blipFill>
          <a:blip r:embed="rId1"/>
          <a:stretch/>
        </p:blipFill>
        <p:spPr>
          <a:xfrm>
            <a:off x="3200400" y="1447920"/>
            <a:ext cx="344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3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opping the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North Africa: 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 Stalin wanted Allies to invade France first so Hitler would have to split his 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rchill and FDR launch O.T. instead; not ready to attack France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lin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. Patton kick b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teu"/>
          <p:cNvPicPr/>
          <p:nvPr/>
        </p:nvPicPr>
        <p:blipFill>
          <a:blip r:embed="rId1"/>
          <a:srcRect l="0" t="0" r="0" b="20475"/>
          <a:stretch/>
        </p:blipFill>
        <p:spPr>
          <a:xfrm>
            <a:off x="5535720" y="3581280"/>
            <a:ext cx="3554280" cy="309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6095880" y="182520"/>
            <a:ext cx="2433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Battle of the 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7 mos of attack by wolf packs along US east coast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8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ied ships           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*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oy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nar and radar help turn tide for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Building rate for ships increas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0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 from 100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atlantic"/>
          <p:cNvPicPr/>
          <p:nvPr/>
        </p:nvPicPr>
        <p:blipFill>
          <a:blip r:embed="rId1"/>
          <a:stretch/>
        </p:blipFill>
        <p:spPr>
          <a:xfrm>
            <a:off x="4952880" y="160020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Battle of Stalingra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-Nov 194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1145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Invasion of Stalingrad due to Germans nee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il and indu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Started in summer; thought it would be an easy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Fighting endured for months and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Germans on defensive; were not allowed to retreat; eventually surrendered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 re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-36360" y="1092240"/>
            <a:ext cx="9144000" cy="360"/>
          </a:xfrm>
          <a:prstGeom prst="rect">
            <a:avLst/>
          </a:prstGeom>
          <a:solidFill>
            <a:srgbClr val="e4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0920" bIns="-70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-36360" y="1092240"/>
            <a:ext cx="9144000" cy="360"/>
            <a:chOff x="-36360" y="1092240"/>
            <a:chExt cx="9144000" cy="360"/>
          </a:xfrm>
        </p:grpSpPr>
        <p:sp>
          <p:nvSpPr>
            <p:cNvPr id="103" name="Rectangle 11"/>
            <p:cNvSpPr/>
            <p:nvPr/>
          </p:nvSpPr>
          <p:spPr>
            <a:xfrm>
              <a:off x="-36360" y="1092240"/>
              <a:ext cx="9144000" cy="360"/>
            </a:xfrm>
            <a:prstGeom prst="rect">
              <a:avLst/>
            </a:prstGeom>
            <a:solidFill>
              <a:srgbClr val="e4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-36360" y="1092240"/>
              <a:ext cx="9144000" cy="360"/>
              <a:chOff x="-36360" y="1092240"/>
              <a:chExt cx="9144000" cy="3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solidFill>
                <a:srgbClr val="e4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" name="Picture 13" descr="Map_european_russia_volgograd"/>
          <p:cNvPicPr/>
          <p:nvPr/>
        </p:nvPicPr>
        <p:blipFill>
          <a:blip r:embed="rId1"/>
          <a:stretch/>
        </p:blipFill>
        <p:spPr>
          <a:xfrm>
            <a:off x="4343400" y="1371600"/>
            <a:ext cx="4438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645E-DAA7-45DD-9ACC-799993C4E2FC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Italian Campaign (19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Italy from the              south in Sicily* the “soft underbelly”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captured and     executed; hung in tow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iteu"/>
          <p:cNvPicPr/>
          <p:nvPr/>
        </p:nvPicPr>
        <p:blipFill>
          <a:blip r:embed="rId1"/>
          <a:stretch/>
        </p:blipFill>
        <p:spPr>
          <a:xfrm>
            <a:off x="5638680" y="1790640"/>
            <a:ext cx="3657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993B-95D3-440C-A855-1A474F8F443F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icily-ship"/>
          <p:cNvPicPr/>
          <p:nvPr/>
        </p:nvPicPr>
        <p:blipFill>
          <a:blip r:embed="rId1"/>
          <a:stretch/>
        </p:blipFill>
        <p:spPr>
          <a:xfrm>
            <a:off x="228600" y="1371600"/>
            <a:ext cx="6651720" cy="4479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unitions cargo ship bombed by Germans; Italia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ehran Con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Roosevelt, Churchill  and Stalin before invasion o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launch full-scale offensive against Germans after French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ivided amongst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support militarily against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7D42-86E2-4BFB-89E4-EB99382B7C70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371600" y="4111560"/>
            <a:ext cx="4362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85F6-3053-4977-B7F3-BF4E5759C323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 Landing in France: Operation Over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-Day: June 6, 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ay Allies inva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led by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. Eisenh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Plan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Lead by 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mb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 routes (ro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s, RR) for 6 wk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2,500 killed (matter of hours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Allowed Gen Patton and his m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Paris via St.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5870520" y="1219320"/>
            <a:ext cx="32734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2:44:08Z</dcterms:created>
  <dc:creator>SUPER</dc:creator>
  <dc:description/>
  <dc:language>en-US</dc:language>
  <cp:lastModifiedBy>SUPER</cp:lastModifiedBy>
  <dcterms:modified xsi:type="dcterms:W3CDTF">2018-01-09T23:03:19Z</dcterms:modified>
  <cp:revision>35</cp:revision>
  <dc:subject/>
  <dc:title>PowerPoint Presentation</dc:title>
</cp:coreProperties>
</file>